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27F-CF9E-4968-BD15-F85F8C78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7B60-0F28-45A8-A485-2E1AD876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D2D1-9134-47AB-B264-3F0E7F2C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E075-9835-4B49-8E57-2CE13BE9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B870-2B72-4D3C-9507-157FD1D5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EE36-1D13-4597-BF1D-D65747E2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6567-4587-45C6-85C3-1FDDEC36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C3ED-7514-428F-9D6A-1BE1F999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D25D-9A3A-4F9C-9F5A-F816DE3B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50EC-D3D4-4149-9CC8-F29437EE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2CA6-9B5F-4EAF-A77B-0C13A24B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B331-0AA0-43FD-B64D-A7B7B27C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F140-1FC6-49EE-99CF-D5FB955F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255D-D28E-4727-B826-32DC645C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A81A-E4C3-42E5-956B-DA796926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54A9-58EE-44C9-BB3F-15BE2D74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6CAF-AFF0-45F2-8DA5-62B4B3A1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2275D-6AF0-42EC-89A3-88F1091B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1AB97-DB26-4709-9024-CAC5293A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02756-879A-415E-9EB8-9DBE4A1C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6B6F2-27C6-434C-8117-3EBBA053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8650D-5244-439F-A708-51AD3698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44B2-5B2B-4BA4-BB0B-BC674038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8DE43-F288-4B7C-A10C-0F9BDE86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91DAC-6A5A-4917-8093-A3138A29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38687-69B2-4620-9C73-F237AB68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9F79B-F842-4690-89ED-98132361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07290-94EE-4084-8B57-8323DA4D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307D3-6CBC-4147-A922-AA31E48F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49951-F9DB-48E9-A024-09DC9F1E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07215-4B21-4FF2-9C31-1182023D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49C47-D38C-457B-BBDE-EA24C08D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B5097-0C2C-4DC0-B020-D50007A6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369-B01C-471D-96F5-F7AEA90A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0D315-46B4-4CC5-9B2D-23309521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9CF06-EB94-4F76-AE67-955484DE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BCB5D-73A9-4963-A44B-7BB7154C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368F2-96B8-4FF9-9F3B-876B85B2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B0CC8-BE34-42CD-92BE-74596D4E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0EC00-AAED-4EDE-B58E-D8BF4EF6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7A5FE-318C-425A-A7E5-B236E42C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3653F-07A7-49A7-BAD6-D7E54AA7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6A59A-590E-450B-AF67-829127F9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12161-34E1-4E0C-B6FE-E37E62AF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25A-5B48-4CFD-9490-8C6CE853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16BF5-3023-49BE-A693-660B6861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D0E32-F029-4543-8A3F-1E54AA4D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A01E8-F41D-4571-ACB7-670984EF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91165-2BC5-4767-A2CC-837576E0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61AE6-2811-404D-827B-64379571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58953-4CD7-4639-808C-E04986F2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62E95-DBBC-434A-BB3C-CF581E85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7453F-D963-44BE-ABE3-0A73B8D1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14E1D-0000-457A-B4C8-6FC8CAEA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00F9F-4D8E-4625-9809-6737E75C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ABC7-B150-408A-82DE-D5815379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E7517-CEB4-4BAD-9941-8FB639BB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B9858-B1C1-4A41-9353-8813279C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E5CA9-33BC-4947-8C46-4B90DB09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EF9A2-E106-43B3-A1F8-2B44939B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8E72B-28B9-4EAE-8BA3-C0A50384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34CEC-C105-497E-8A43-A4D4C35A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1672D-8F54-41C9-A674-FF11489C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D06A6-C788-476B-AA89-E663E2BC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0B8EE-3E52-41B9-80D5-7D56352F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FE115-BAA2-4C18-8997-49B6AF44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FF0B-A79C-406B-9906-811B6A91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DC751-6E59-487E-B659-B9A4193C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F7595-8A6C-4A1D-BFA2-E49F8DDC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C9060-870A-42E1-BA50-3C523F9C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1FBAA-2977-4FEF-AE21-FD3D27DE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4AC3A-274B-441D-943A-E77D0EEB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261BE-3189-4F37-946A-47184680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D3F22-556A-42FF-8CF0-E750F640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0748F-B648-404E-B588-187C38BB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4DEFF-4F44-4017-AAA2-507DFE1B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85000-917F-4838-AE47-D7649915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7071-8B3A-4CC4-BAB6-1321C98D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44F1F-6469-4E85-A722-55332285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A1BDC-761F-4079-A98D-A40793D1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0EA46-9929-48AB-B309-AE71DADD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D3519-EBEB-4E16-9F4F-ED3D1BAC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9D879-780D-4DD1-9DA7-A2912705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EBA4E-E2B5-4C8D-AD85-8A302F33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C5A37-CF72-4E4A-8E09-66E4ABC2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63E2E-604F-47A7-A9BE-D97AA6DA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FEB6F-581E-46FF-9FD3-06C80360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32B2B-537B-4981-A91D-B60E2019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176-41B8-4384-9624-A3C2D6EC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AF5C8-CB35-4E31-96C9-77D97A95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4A3C0-8130-458D-A9CC-48C00DDE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3A56B-5C5C-4EE7-BE49-D308B52A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BF949-6240-449C-BBA1-78B22470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CE424-8A57-4A09-B5EC-2890E51C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E15A0-C3CB-416D-A93F-B4938171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07214-050E-4398-9701-4BF49A02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4653-F229-4291-BD2F-353C63703E1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6996-8A08-49DF-9DE6-DD933C94219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DCCE-5C57-4233-AB01-07D1611AC28D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0968-29DE-470E-B251-E765DEC380D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17C6-C4B4-4E1C-98DF-0788989A9EC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285C-399E-4C98-A76D-7467C92D6EF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09FA-1E14-44CD-B993-F9DEC83BDF62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4FE5-F9A5-4EBE-8ED5-0023106E918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Follow Up Lett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Going the extra mi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General Though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fter applying, you might choose to follow up with the college regarding your applic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most important thing you can do in this letter is be sincere. Insincerity or coldness will not bode well with the college admissions offic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s should be written in block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ard-copy, handwritten, or e-mail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ard-copy is the most formal and most appropriat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andwritten is personal and works if you design like a thank you to a specific person after visiting the schoo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 individual who gives a tou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omeone you met brief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-mail is informal but it can be sufficient if that has been your main means of contact with a given admissions representativ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urpose of the lett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how appreciation for the college taking time to consider you for admiss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iterate your interest in attending the colle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view or remind about your strengths (without sounding preachy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monstrate that you have good manners and know how to be thankfu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llow up with any potential information that may have been left out of application materia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l though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eep it short and sweet – this doesn’t need to be lo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ime fram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rite within two days of interviewing with a schoo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rite within a week of school receiving application material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ke it personal – try to address to a specific per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 since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0:31:01Z</dcterms:created>
  <dc:creator>Administrator</dc:creator>
  <dc:description/>
  <dc:language>en-US</dc:language>
  <cp:lastModifiedBy>Administrator</cp:lastModifiedBy>
  <dcterms:modified xsi:type="dcterms:W3CDTF">2011-09-14T00:44:04Z</dcterms:modified>
  <cp:revision>4</cp:revision>
  <dc:subject/>
  <dc:title>The Follow Up Letter</dc:title>
</cp:coreProperties>
</file>